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86A-7BC5-4D32-895D-4B844E58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0F2-880D-4B32-8A20-3BE4A766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B79-356B-4348-9C14-2B23F428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CDB-2B47-4771-A4A4-F6ABBA53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303-9B79-46CC-AA39-4B799AD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DC2-2135-4AF9-AB46-BB89EC1C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B54-23C8-4363-81BE-06AC5457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54F-2207-4A30-BD99-86FE90DD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82D-489F-40B4-9C06-9254A999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6E8-CDC1-497D-8D03-8C8C3E17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2F3-11B0-491F-84CD-F79FAEE5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E8D-E27E-4E67-A21C-B1AE519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EA1D-3E02-4C57-9888-B0BE0D00AA3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7 Chváľme Boha piesňa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Boha piesň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lebme ho žalm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ždy vďačnej piesne tó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náša sa pred Boží tró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ávme Boha za mil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n vzácny neba skvo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 Synovi svojom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spásou sveta sta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lý vesmír vďaku vz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 láske rozpráv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a svetu zjavil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chu, vín ho zbavil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Timo</cp:lastModifiedBy>
  <dcterms:modified xsi:type="dcterms:W3CDTF">2012-08-27T10:50:49Z</dcterms:modified>
  <cp:revision>12</cp:revision>
  <dc:subject/>
  <dc:title>Je veľký náš Pán, on slávy je Kráľ Nech do všetkých strán  spev vrúcnych znie chvál.</dc:title>
</cp:coreProperties>
</file>